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16C15-1E29-47F0-93C6-3B761575DF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0860E-3D39-4226-AB1E-8909F8DB15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90720" y="76824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5D313-D9B5-41E5-8204-1F621F4C301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736D4-9BEB-4C25-BF53-8C34C2143B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EE4E5-4254-4749-8E59-4E90D14FE20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770B-9682-46C5-A018-8EFCF59420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D67F8-1607-4240-A50E-808227012D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E4378-87D9-4724-9E16-AF1249FC4A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B3224-D1A4-4A41-A7AC-9649FD64D46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1113B-3C74-4E03-B185-3477A24613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2A698-7718-4143-B52B-CA6FD2A3C3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7A62-A8DE-4939-B547-9C3EAF21AED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ABC8-E0C1-4986-AD20-BCFCA9EF107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080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33240" y="119664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080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33240" y="38296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0E01A-5E07-4A3E-8913-EBE73DC5A4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1360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5400" y="38296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136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5400" y="119664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8360" y="38296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Line 20"/>
          <p:cNvSpPr/>
          <p:nvPr/>
        </p:nvSpPr>
        <p:spPr>
          <a:xfrm>
            <a:off x="380880" y="609300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21"/>
          <p:cNvSpPr/>
          <p:nvPr/>
        </p:nvSpPr>
        <p:spPr>
          <a:xfrm>
            <a:off x="457200" y="614844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Line 23"/>
          <p:cNvSpPr/>
          <p:nvPr/>
        </p:nvSpPr>
        <p:spPr>
          <a:xfrm>
            <a:off x="457200" y="1378080"/>
            <a:ext cx="830592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24"/>
          <p:cNvSpPr/>
          <p:nvPr/>
        </p:nvSpPr>
        <p:spPr>
          <a:xfrm>
            <a:off x="380880" y="1322280"/>
            <a:ext cx="8305920" cy="0"/>
          </a:xfrm>
          <a:prstGeom prst="line">
            <a:avLst/>
          </a:prstGeom>
          <a:ln w="38160">
            <a:solidFill>
              <a:srgbClr val="0d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9" descr="iis_rgb"/>
          <p:cNvPicPr/>
          <p:nvPr/>
        </p:nvPicPr>
        <p:blipFill>
          <a:blip r:embed="rId2"/>
          <a:stretch/>
        </p:blipFill>
        <p:spPr>
          <a:xfrm>
            <a:off x="6083280" y="298440"/>
            <a:ext cx="2536920" cy="719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8" descr=""/>
          <p:cNvPicPr/>
          <p:nvPr/>
        </p:nvPicPr>
        <p:blipFill>
          <a:blip r:embed="rId3"/>
          <a:stretch/>
        </p:blipFill>
        <p:spPr>
          <a:xfrm>
            <a:off x="403200" y="304920"/>
            <a:ext cx="2425680" cy="53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grey_90"/>
          <p:cNvPicPr/>
          <p:nvPr/>
        </p:nvPicPr>
        <p:blipFill>
          <a:blip r:embed="rId2"/>
          <a:stretch/>
        </p:blipFill>
        <p:spPr>
          <a:xfrm>
            <a:off x="0" y="0"/>
            <a:ext cx="9144000" cy="189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68360" y="1196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aaed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1"/>
          </p:nvPr>
        </p:nvSpPr>
        <p:spPr>
          <a:xfrm>
            <a:off x="3124080" y="63370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2"/>
          </p:nvPr>
        </p:nvSpPr>
        <p:spPr>
          <a:xfrm>
            <a:off x="6587640" y="6337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fld id="{E966DCAA-3AD2-4D9B-93F4-683EFB9A95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3"/>
          <p:cNvSpPr/>
          <p:nvPr/>
        </p:nvSpPr>
        <p:spPr>
          <a:xfrm>
            <a:off x="0" y="11588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r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274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1800" y="49806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2027160"/>
            <a:ext cx="91440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io Processing, Summer Ter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0" y="40053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170028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min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256536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0" y="43657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 Affil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"/>
          <p:cNvSpPr/>
          <p:nvPr/>
        </p:nvSpPr>
        <p:spPr>
          <a:xfrm>
            <a:off x="0" y="465300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r@mail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Talk should last at most </a:t>
            </a: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30 minutes</a:t>
            </a:r>
            <a:br>
              <a:rPr sz="2400"/>
            </a:b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dress your aud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tivate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lain the concepts in your ow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Give many illustrative examples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41080" y="15559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k with pictures rather than with form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I:\__Teaching\__2010_WS_Seminar_MusicSignalProcessing\Website\Tempogram.png"/>
          <p:cNvPicPr/>
          <p:nvPr/>
        </p:nvPicPr>
        <p:blipFill>
          <a:blip r:embed="rId1"/>
          <a:stretch/>
        </p:blipFill>
        <p:spPr>
          <a:xfrm>
            <a:off x="1187280" y="2565360"/>
            <a:ext cx="3889440" cy="10969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I:\__Teaching\__2010_WS_Seminar_MusicSignalProcessing\Website\MuellerGrosche_InformatikSpektrum_withoutTime.tif"/>
          <p:cNvPicPr/>
          <p:nvPr/>
        </p:nvPicPr>
        <p:blipFill>
          <a:blip r:embed="rId2"/>
          <a:stretch/>
        </p:blipFill>
        <p:spPr>
          <a:xfrm>
            <a:off x="5580000" y="2852640"/>
            <a:ext cx="2695680" cy="26942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I:\__Teaching\__2010_WS_Seminar_MusicSignalProcessing\Website\music.jpg"/>
          <p:cNvPicPr/>
          <p:nvPr/>
        </p:nvPicPr>
        <p:blipFill>
          <a:blip r:embed="rId3"/>
          <a:stretch/>
        </p:blipFill>
        <p:spPr>
          <a:xfrm>
            <a:off x="1476360" y="4221000"/>
            <a:ext cx="298764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General Comment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545040" y="15559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clude audio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4573440" y="1628640"/>
            <a:ext cx="358920" cy="287640"/>
          </a:xfrm>
          <a:custGeom>
            <a:avLst/>
            <a:gdLst>
              <a:gd name="textAreaLeft" fmla="*/ 18360 w 358920"/>
              <a:gd name="textAreaRight" fmla="*/ 340560 w 35892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6946" h="21600">
                <a:moveTo>
                  <a:pt x="0" y="0"/>
                </a:moveTo>
                <a:lnTo>
                  <a:pt x="26946" y="0"/>
                </a:lnTo>
                <a:lnTo>
                  <a:pt x="26946" y="21600"/>
                </a:lnTo>
                <a:lnTo>
                  <a:pt x="0" y="21600"/>
                </a:lnTo>
                <a:close/>
              </a:path>
              <a:path fill="lightenLess" w="26946" h="21600">
                <a:moveTo>
                  <a:pt x="0" y="0"/>
                </a:moveTo>
                <a:lnTo>
                  <a:pt x="26946" y="0"/>
                </a:lnTo>
                <a:lnTo>
                  <a:pt x="25546" y="1400"/>
                </a:lnTo>
                <a:lnTo>
                  <a:pt x="1400" y="1400"/>
                </a:lnTo>
                <a:close/>
              </a:path>
              <a:path fill="darken" w="26946" h="21600">
                <a:moveTo>
                  <a:pt x="26946" y="0"/>
                </a:moveTo>
                <a:lnTo>
                  <a:pt x="26946" y="21600"/>
                </a:lnTo>
                <a:lnTo>
                  <a:pt x="25546" y="20200"/>
                </a:lnTo>
                <a:lnTo>
                  <a:pt x="25546" y="1400"/>
                </a:lnTo>
                <a:close/>
              </a:path>
              <a:path fill="darkenLess" w="26946" h="21600">
                <a:moveTo>
                  <a:pt x="26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46" y="20200"/>
                </a:lnTo>
                <a:close/>
              </a:path>
              <a:path fill="lighten" w="26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46" h="21600">
                <a:moveTo>
                  <a:pt x="6467" y="3794"/>
                </a:moveTo>
                <a:lnTo>
                  <a:pt x="20479" y="10800"/>
                </a:lnTo>
                <a:lnTo>
                  <a:pt x="6467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13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3366"/>
                </a:solidFill>
                <a:latin typeface="Arial"/>
              </a:rPr>
              <a:t>References and Acknowledg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5" descr="cover_book_2"/>
          <p:cNvPicPr/>
          <p:nvPr/>
        </p:nvPicPr>
        <p:blipFill>
          <a:blip r:embed="rId1"/>
          <a:stretch/>
        </p:blipFill>
        <p:spPr>
          <a:xfrm>
            <a:off x="755640" y="1773360"/>
            <a:ext cx="2190600" cy="33112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3306600" y="1771560"/>
            <a:ext cx="32418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üller, Mein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on Retrieval for Music and 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7, XVI. 318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6 illus. 39 in Color, Hardc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BN: 978-3-540-74047-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ringer.com/978-3-540-74047-6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9,50 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2:49:17Z</dcterms:created>
  <dc:creator>Conny Liegl</dc:creator>
  <dc:description/>
  <dc:language>en-US</dc:language>
  <cp:lastModifiedBy>Meinard Müller</cp:lastModifiedBy>
  <dcterms:modified xsi:type="dcterms:W3CDTF">2013-05-13T12:30:13Z</dcterms:modified>
  <cp:revision>125</cp:revision>
  <dc:subject/>
  <dc:title>Slide 1</dc:title>
</cp:coreProperties>
</file>